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24E-4A42-4FFD-BEEF-5F85FADB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8D3-36C2-4F18-9572-7B0633ED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D5F-A521-4271-AFE1-D4EDDA22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C19-E349-4C61-8928-39900CDD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9AD-968B-4224-93AE-D74B7D5C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4E1-2E65-45CC-BB9D-FDF6C70F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BB9-8BA9-4992-AB89-93EDE8AA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436-A489-4624-B426-A2B0D2FC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C0D-F1A6-41FC-82A2-44BA0CC4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1AA-63C4-46E3-9DAD-BDB1E8BA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D3E-0D94-45CF-B90D-A7F8DB33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671-134E-444F-B92F-91BC60EF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1158-8196-42E4-9A1D-46C3D094E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" Target="slide8.xml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15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19.xm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" Target="slide23.xm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25.xm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87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00720" y="0"/>
            <a:ext cx="464328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70dee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5364000" y="1773360"/>
            <a:ext cx="576360" cy="6490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324">
                <a:moveTo>
                  <a:pt x="0" y="0"/>
                </a:moveTo>
                <a:lnTo>
                  <a:pt x="21600" y="0"/>
                </a:lnTo>
                <a:lnTo>
                  <a:pt x="21600" y="24324"/>
                </a:lnTo>
                <a:lnTo>
                  <a:pt x="0" y="24324"/>
                </a:lnTo>
                <a:close/>
              </a:path>
              <a:path fill="lightenLess" w="21600" h="24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24">
                <a:moveTo>
                  <a:pt x="21600" y="0"/>
                </a:moveTo>
                <a:lnTo>
                  <a:pt x="21600" y="24324"/>
                </a:lnTo>
                <a:lnTo>
                  <a:pt x="20200" y="22924"/>
                </a:lnTo>
                <a:lnTo>
                  <a:pt x="20200" y="1400"/>
                </a:lnTo>
                <a:close/>
              </a:path>
              <a:path fill="darkenLess" w="21600" h="24324">
                <a:moveTo>
                  <a:pt x="21600" y="24324"/>
                </a:moveTo>
                <a:lnTo>
                  <a:pt x="0" y="24324"/>
                </a:lnTo>
                <a:lnTo>
                  <a:pt x="1400" y="22924"/>
                </a:lnTo>
                <a:lnTo>
                  <a:pt x="20200" y="22924"/>
                </a:lnTo>
                <a:close/>
              </a:path>
              <a:path fill="lighten" w="21600" h="24324">
                <a:moveTo>
                  <a:pt x="0" y="24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24"/>
                </a:lnTo>
                <a:close/>
              </a:path>
            </a:pathLst>
          </a:custGeom>
          <a:blipFill rotWithShape="0">
            <a:blip r:embed="rId4">
              <a:alphaModFix amt="7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6443640" y="1773360"/>
            <a:ext cx="574560" cy="6490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400">
                <a:moveTo>
                  <a:pt x="0" y="0"/>
                </a:moveTo>
                <a:lnTo>
                  <a:pt x="21600" y="0"/>
                </a:lnTo>
                <a:lnTo>
                  <a:pt x="21600" y="24400"/>
                </a:lnTo>
                <a:lnTo>
                  <a:pt x="0" y="24400"/>
                </a:lnTo>
                <a:close/>
              </a:path>
              <a:path fill="lightenLess" w="21600" h="24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00">
                <a:moveTo>
                  <a:pt x="21600" y="0"/>
                </a:moveTo>
                <a:lnTo>
                  <a:pt x="21600" y="24400"/>
                </a:lnTo>
                <a:lnTo>
                  <a:pt x="20200" y="23000"/>
                </a:lnTo>
                <a:lnTo>
                  <a:pt x="20200" y="1400"/>
                </a:lnTo>
                <a:close/>
              </a:path>
              <a:path fill="darkenLess" w="21600" h="24400">
                <a:moveTo>
                  <a:pt x="21600" y="24400"/>
                </a:moveTo>
                <a:lnTo>
                  <a:pt x="0" y="24400"/>
                </a:lnTo>
                <a:lnTo>
                  <a:pt x="1400" y="23000"/>
                </a:lnTo>
                <a:lnTo>
                  <a:pt x="20200" y="23000"/>
                </a:lnTo>
                <a:close/>
              </a:path>
              <a:path fill="lighten" w="21600" h="24400">
                <a:moveTo>
                  <a:pt x="0" y="24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00"/>
                </a:lnTo>
                <a:close/>
              </a:path>
            </a:pathLst>
          </a:custGeom>
          <a:blipFill rotWithShape="0">
            <a:blip r:embed="rId6">
              <a:alphaModFix amt="7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7" action="ppaction://hlinksldjump"/>
          </p:cNvPr>
          <p:cNvSpPr/>
          <p:nvPr/>
        </p:nvSpPr>
        <p:spPr>
          <a:xfrm>
            <a:off x="7380360" y="1773360"/>
            <a:ext cx="574560" cy="6490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400">
                <a:moveTo>
                  <a:pt x="0" y="0"/>
                </a:moveTo>
                <a:lnTo>
                  <a:pt x="21600" y="0"/>
                </a:lnTo>
                <a:lnTo>
                  <a:pt x="21600" y="24400"/>
                </a:lnTo>
                <a:lnTo>
                  <a:pt x="0" y="24400"/>
                </a:lnTo>
                <a:close/>
              </a:path>
              <a:path fill="lightenLess" w="21600" h="24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00">
                <a:moveTo>
                  <a:pt x="21600" y="0"/>
                </a:moveTo>
                <a:lnTo>
                  <a:pt x="21600" y="24400"/>
                </a:lnTo>
                <a:lnTo>
                  <a:pt x="20200" y="23000"/>
                </a:lnTo>
                <a:lnTo>
                  <a:pt x="20200" y="1400"/>
                </a:lnTo>
                <a:close/>
              </a:path>
              <a:path fill="darkenLess" w="21600" h="24400">
                <a:moveTo>
                  <a:pt x="21600" y="24400"/>
                </a:moveTo>
                <a:lnTo>
                  <a:pt x="0" y="24400"/>
                </a:lnTo>
                <a:lnTo>
                  <a:pt x="1400" y="23000"/>
                </a:lnTo>
                <a:lnTo>
                  <a:pt x="20200" y="23000"/>
                </a:lnTo>
                <a:close/>
              </a:path>
              <a:path fill="lighten" w="21600" h="24400">
                <a:moveTo>
                  <a:pt x="0" y="24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00"/>
                </a:lnTo>
                <a:close/>
              </a:path>
            </a:pathLst>
          </a:custGeom>
          <a:blipFill rotWithShape="0">
            <a:blip r:embed="rId8">
              <a:alphaModFix amt="7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9" action="ppaction://hlinksldjump"/>
          </p:cNvPr>
          <p:cNvSpPr/>
          <p:nvPr/>
        </p:nvSpPr>
        <p:spPr>
          <a:xfrm>
            <a:off x="6443640" y="2781360"/>
            <a:ext cx="574560" cy="6490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400">
                <a:moveTo>
                  <a:pt x="0" y="0"/>
                </a:moveTo>
                <a:lnTo>
                  <a:pt x="21600" y="0"/>
                </a:lnTo>
                <a:lnTo>
                  <a:pt x="21600" y="24400"/>
                </a:lnTo>
                <a:lnTo>
                  <a:pt x="0" y="24400"/>
                </a:lnTo>
                <a:close/>
              </a:path>
              <a:path fill="lightenLess" w="21600" h="24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00">
                <a:moveTo>
                  <a:pt x="21600" y="0"/>
                </a:moveTo>
                <a:lnTo>
                  <a:pt x="21600" y="24400"/>
                </a:lnTo>
                <a:lnTo>
                  <a:pt x="20200" y="23000"/>
                </a:lnTo>
                <a:lnTo>
                  <a:pt x="20200" y="1400"/>
                </a:lnTo>
                <a:close/>
              </a:path>
              <a:path fill="darkenLess" w="21600" h="24400">
                <a:moveTo>
                  <a:pt x="21600" y="24400"/>
                </a:moveTo>
                <a:lnTo>
                  <a:pt x="0" y="24400"/>
                </a:lnTo>
                <a:lnTo>
                  <a:pt x="1400" y="23000"/>
                </a:lnTo>
                <a:lnTo>
                  <a:pt x="20200" y="23000"/>
                </a:lnTo>
                <a:close/>
              </a:path>
              <a:path fill="lighten" w="21600" h="24400">
                <a:moveTo>
                  <a:pt x="0" y="24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00"/>
                </a:lnTo>
                <a:close/>
              </a:path>
            </a:pathLst>
          </a:custGeom>
          <a:blipFill rotWithShape="0">
            <a:blip r:embed="rId10">
              <a:alphaModFix amt="7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80360" y="2781360"/>
            <a:ext cx="574560" cy="6490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400">
                <a:moveTo>
                  <a:pt x="0" y="0"/>
                </a:moveTo>
                <a:lnTo>
                  <a:pt x="21600" y="0"/>
                </a:lnTo>
                <a:lnTo>
                  <a:pt x="21600" y="24400"/>
                </a:lnTo>
                <a:lnTo>
                  <a:pt x="0" y="24400"/>
                </a:lnTo>
                <a:close/>
              </a:path>
              <a:path fill="lightenLess" w="21600" h="24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00">
                <a:moveTo>
                  <a:pt x="21600" y="0"/>
                </a:moveTo>
                <a:lnTo>
                  <a:pt x="21600" y="24400"/>
                </a:lnTo>
                <a:lnTo>
                  <a:pt x="20200" y="23000"/>
                </a:lnTo>
                <a:lnTo>
                  <a:pt x="20200" y="1400"/>
                </a:lnTo>
                <a:close/>
              </a:path>
              <a:path fill="darkenLess" w="21600" h="24400">
                <a:moveTo>
                  <a:pt x="21600" y="24400"/>
                </a:moveTo>
                <a:lnTo>
                  <a:pt x="0" y="24400"/>
                </a:lnTo>
                <a:lnTo>
                  <a:pt x="1400" y="23000"/>
                </a:lnTo>
                <a:lnTo>
                  <a:pt x="20200" y="23000"/>
                </a:lnTo>
                <a:close/>
              </a:path>
              <a:path fill="lighten" w="21600" h="24400">
                <a:moveTo>
                  <a:pt x="0" y="24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00"/>
                </a:lnTo>
                <a:close/>
              </a:path>
            </a:pathLst>
          </a:custGeom>
          <a:blipFill rotWithShape="0">
            <a:blip r:embed="rId11">
              <a:alphaModFix amt="7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3789360"/>
            <a:ext cx="574920" cy="649440"/>
          </a:xfrm>
          <a:custGeom>
            <a:avLst/>
            <a:gdLst>
              <a:gd name="textAreaLeft" fmla="*/ 37080 w 574920"/>
              <a:gd name="textAreaRight" fmla="*/ 537840 w 57492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98">
                <a:moveTo>
                  <a:pt x="0" y="0"/>
                </a:moveTo>
                <a:lnTo>
                  <a:pt x="21600" y="0"/>
                </a:lnTo>
                <a:lnTo>
                  <a:pt x="21600" y="24398"/>
                </a:lnTo>
                <a:lnTo>
                  <a:pt x="0" y="24398"/>
                </a:lnTo>
                <a:close/>
              </a:path>
              <a:path fill="lightenLess" w="21600" h="24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98">
                <a:moveTo>
                  <a:pt x="21600" y="0"/>
                </a:moveTo>
                <a:lnTo>
                  <a:pt x="21600" y="24398"/>
                </a:lnTo>
                <a:lnTo>
                  <a:pt x="20200" y="22998"/>
                </a:lnTo>
                <a:lnTo>
                  <a:pt x="20200" y="1400"/>
                </a:lnTo>
                <a:close/>
              </a:path>
              <a:path fill="darkenLess" w="21600" h="24398">
                <a:moveTo>
                  <a:pt x="21600" y="24398"/>
                </a:moveTo>
                <a:lnTo>
                  <a:pt x="0" y="24398"/>
                </a:lnTo>
                <a:lnTo>
                  <a:pt x="1400" y="22998"/>
                </a:lnTo>
                <a:lnTo>
                  <a:pt x="20200" y="22998"/>
                </a:lnTo>
                <a:close/>
              </a:path>
              <a:path fill="lighten" w="21600" h="24398">
                <a:moveTo>
                  <a:pt x="0" y="24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98"/>
                </a:lnTo>
                <a:close/>
              </a:path>
            </a:pathLst>
          </a:custGeom>
          <a:blipFill rotWithShape="0">
            <a:blip r:embed="rId12">
              <a:alphaModFix amt="7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51640" y="4724280"/>
            <a:ext cx="574920" cy="649440"/>
          </a:xfrm>
          <a:custGeom>
            <a:avLst/>
            <a:gdLst>
              <a:gd name="textAreaLeft" fmla="*/ 37080 w 574920"/>
              <a:gd name="textAreaRight" fmla="*/ 537840 w 57492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98">
                <a:moveTo>
                  <a:pt x="0" y="0"/>
                </a:moveTo>
                <a:lnTo>
                  <a:pt x="21600" y="0"/>
                </a:lnTo>
                <a:lnTo>
                  <a:pt x="21600" y="24398"/>
                </a:lnTo>
                <a:lnTo>
                  <a:pt x="0" y="24398"/>
                </a:lnTo>
                <a:close/>
              </a:path>
              <a:path fill="lightenLess" w="21600" h="24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98">
                <a:moveTo>
                  <a:pt x="21600" y="0"/>
                </a:moveTo>
                <a:lnTo>
                  <a:pt x="21600" y="24398"/>
                </a:lnTo>
                <a:lnTo>
                  <a:pt x="20200" y="22998"/>
                </a:lnTo>
                <a:lnTo>
                  <a:pt x="20200" y="1400"/>
                </a:lnTo>
                <a:close/>
              </a:path>
              <a:path fill="darkenLess" w="21600" h="24398">
                <a:moveTo>
                  <a:pt x="21600" y="24398"/>
                </a:moveTo>
                <a:lnTo>
                  <a:pt x="0" y="24398"/>
                </a:lnTo>
                <a:lnTo>
                  <a:pt x="1400" y="22998"/>
                </a:lnTo>
                <a:lnTo>
                  <a:pt x="20200" y="22998"/>
                </a:lnTo>
                <a:close/>
              </a:path>
              <a:path fill="lighten" w="21600" h="24398">
                <a:moveTo>
                  <a:pt x="0" y="24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98"/>
                </a:lnTo>
                <a:close/>
              </a:path>
            </a:pathLst>
          </a:custGeom>
          <a:blipFill rotWithShape="0">
            <a:blip r:embed="rId13">
              <a:alphaModFix amt="7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3789360"/>
            <a:ext cx="574560" cy="6494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413">
                <a:moveTo>
                  <a:pt x="0" y="0"/>
                </a:moveTo>
                <a:lnTo>
                  <a:pt x="21600" y="0"/>
                </a:lnTo>
                <a:lnTo>
                  <a:pt x="21600" y="24413"/>
                </a:lnTo>
                <a:lnTo>
                  <a:pt x="0" y="24413"/>
                </a:lnTo>
                <a:close/>
              </a:path>
              <a:path fill="lightenLess" w="21600" h="24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13">
                <a:moveTo>
                  <a:pt x="21600" y="0"/>
                </a:moveTo>
                <a:lnTo>
                  <a:pt x="21600" y="24413"/>
                </a:lnTo>
                <a:lnTo>
                  <a:pt x="20200" y="23013"/>
                </a:lnTo>
                <a:lnTo>
                  <a:pt x="20200" y="1400"/>
                </a:lnTo>
                <a:close/>
              </a:path>
              <a:path fill="darkenLess" w="21600" h="24413">
                <a:moveTo>
                  <a:pt x="21600" y="24413"/>
                </a:moveTo>
                <a:lnTo>
                  <a:pt x="0" y="24413"/>
                </a:lnTo>
                <a:lnTo>
                  <a:pt x="1400" y="23013"/>
                </a:lnTo>
                <a:lnTo>
                  <a:pt x="20200" y="23013"/>
                </a:lnTo>
                <a:close/>
              </a:path>
              <a:path fill="lighten" w="21600" h="24413">
                <a:moveTo>
                  <a:pt x="0" y="24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13"/>
                </a:lnTo>
                <a:close/>
              </a:path>
            </a:pathLst>
          </a:custGeom>
          <a:blipFill rotWithShape="0">
            <a:blip r:embed="rId14">
              <a:alphaModFix amt="7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43640" y="4724280"/>
            <a:ext cx="574560" cy="6494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413">
                <a:moveTo>
                  <a:pt x="0" y="0"/>
                </a:moveTo>
                <a:lnTo>
                  <a:pt x="21600" y="0"/>
                </a:lnTo>
                <a:lnTo>
                  <a:pt x="21600" y="24413"/>
                </a:lnTo>
                <a:lnTo>
                  <a:pt x="0" y="24413"/>
                </a:lnTo>
                <a:close/>
              </a:path>
              <a:path fill="lightenLess" w="21600" h="24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13">
                <a:moveTo>
                  <a:pt x="21600" y="0"/>
                </a:moveTo>
                <a:lnTo>
                  <a:pt x="21600" y="24413"/>
                </a:lnTo>
                <a:lnTo>
                  <a:pt x="20200" y="23013"/>
                </a:lnTo>
                <a:lnTo>
                  <a:pt x="20200" y="1400"/>
                </a:lnTo>
                <a:close/>
              </a:path>
              <a:path fill="darkenLess" w="21600" h="24413">
                <a:moveTo>
                  <a:pt x="21600" y="24413"/>
                </a:moveTo>
                <a:lnTo>
                  <a:pt x="0" y="24413"/>
                </a:lnTo>
                <a:lnTo>
                  <a:pt x="1400" y="23013"/>
                </a:lnTo>
                <a:lnTo>
                  <a:pt x="20200" y="23013"/>
                </a:lnTo>
                <a:close/>
              </a:path>
              <a:path fill="lighten" w="21600" h="24413">
                <a:moveTo>
                  <a:pt x="0" y="24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13"/>
                </a:lnTo>
                <a:close/>
              </a:path>
            </a:pathLst>
          </a:custGeom>
          <a:blipFill rotWithShape="0">
            <a:blip r:embed="rId15">
              <a:alphaModFix amt="7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4724280"/>
            <a:ext cx="574920" cy="649440"/>
          </a:xfrm>
          <a:custGeom>
            <a:avLst/>
            <a:gdLst>
              <a:gd name="textAreaLeft" fmla="*/ 37080 w 574920"/>
              <a:gd name="textAreaRight" fmla="*/ 537840 w 57492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98">
                <a:moveTo>
                  <a:pt x="0" y="0"/>
                </a:moveTo>
                <a:lnTo>
                  <a:pt x="21600" y="0"/>
                </a:lnTo>
                <a:lnTo>
                  <a:pt x="21600" y="24398"/>
                </a:lnTo>
                <a:lnTo>
                  <a:pt x="0" y="24398"/>
                </a:lnTo>
                <a:close/>
              </a:path>
              <a:path fill="lightenLess" w="21600" h="24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98">
                <a:moveTo>
                  <a:pt x="21600" y="0"/>
                </a:moveTo>
                <a:lnTo>
                  <a:pt x="21600" y="24398"/>
                </a:lnTo>
                <a:lnTo>
                  <a:pt x="20200" y="22998"/>
                </a:lnTo>
                <a:lnTo>
                  <a:pt x="20200" y="1400"/>
                </a:lnTo>
                <a:close/>
              </a:path>
              <a:path fill="darkenLess" w="21600" h="24398">
                <a:moveTo>
                  <a:pt x="21600" y="24398"/>
                </a:moveTo>
                <a:lnTo>
                  <a:pt x="0" y="24398"/>
                </a:lnTo>
                <a:lnTo>
                  <a:pt x="1400" y="22998"/>
                </a:lnTo>
                <a:lnTo>
                  <a:pt x="20200" y="22998"/>
                </a:lnTo>
                <a:close/>
              </a:path>
              <a:path fill="lighten" w="21600" h="24398">
                <a:moveTo>
                  <a:pt x="0" y="24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98"/>
                </a:lnTo>
                <a:close/>
              </a:path>
            </a:pathLst>
          </a:custGeom>
          <a:blipFill rotWithShape="0">
            <a:blip r:embed="rId16">
              <a:alphaModFix amt="7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3789360"/>
            <a:ext cx="574920" cy="649440"/>
          </a:xfrm>
          <a:custGeom>
            <a:avLst/>
            <a:gdLst>
              <a:gd name="textAreaLeft" fmla="*/ 37080 w 574920"/>
              <a:gd name="textAreaRight" fmla="*/ 537840 w 57492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98">
                <a:moveTo>
                  <a:pt x="0" y="0"/>
                </a:moveTo>
                <a:lnTo>
                  <a:pt x="21600" y="0"/>
                </a:lnTo>
                <a:lnTo>
                  <a:pt x="21600" y="24398"/>
                </a:lnTo>
                <a:lnTo>
                  <a:pt x="0" y="24398"/>
                </a:lnTo>
                <a:close/>
              </a:path>
              <a:path fill="lightenLess" w="21600" h="24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98">
                <a:moveTo>
                  <a:pt x="21600" y="0"/>
                </a:moveTo>
                <a:lnTo>
                  <a:pt x="21600" y="24398"/>
                </a:lnTo>
                <a:lnTo>
                  <a:pt x="20200" y="22998"/>
                </a:lnTo>
                <a:lnTo>
                  <a:pt x="20200" y="1400"/>
                </a:lnTo>
                <a:close/>
              </a:path>
              <a:path fill="darkenLess" w="21600" h="24398">
                <a:moveTo>
                  <a:pt x="21600" y="24398"/>
                </a:moveTo>
                <a:lnTo>
                  <a:pt x="0" y="24398"/>
                </a:lnTo>
                <a:lnTo>
                  <a:pt x="1400" y="22998"/>
                </a:lnTo>
                <a:lnTo>
                  <a:pt x="20200" y="22998"/>
                </a:lnTo>
                <a:close/>
              </a:path>
              <a:path fill="lighten" w="21600" h="24398">
                <a:moveTo>
                  <a:pt x="0" y="24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98"/>
                </a:lnTo>
                <a:close/>
              </a:path>
            </a:pathLst>
          </a:custGeom>
          <a:blipFill rotWithShape="0">
            <a:blip r:embed="rId17">
              <a:alphaModFix amt="7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8" action="ppaction://hlinksldjump"/>
          </p:cNvPr>
          <p:cNvSpPr/>
          <p:nvPr/>
        </p:nvSpPr>
        <p:spPr>
          <a:xfrm>
            <a:off x="5364000" y="2781360"/>
            <a:ext cx="574920" cy="649080"/>
          </a:xfrm>
          <a:custGeom>
            <a:avLst/>
            <a:gdLst>
              <a:gd name="textAreaLeft" fmla="*/ 37080 w 574920"/>
              <a:gd name="textAreaRight" fmla="*/ 537840 w 57492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384">
                <a:moveTo>
                  <a:pt x="0" y="0"/>
                </a:moveTo>
                <a:lnTo>
                  <a:pt x="21600" y="0"/>
                </a:lnTo>
                <a:lnTo>
                  <a:pt x="21600" y="24384"/>
                </a:lnTo>
                <a:lnTo>
                  <a:pt x="0" y="24384"/>
                </a:lnTo>
                <a:close/>
              </a:path>
              <a:path fill="lightenLess" w="21600" h="24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84">
                <a:moveTo>
                  <a:pt x="21600" y="0"/>
                </a:moveTo>
                <a:lnTo>
                  <a:pt x="21600" y="24384"/>
                </a:lnTo>
                <a:lnTo>
                  <a:pt x="20200" y="22985"/>
                </a:lnTo>
                <a:lnTo>
                  <a:pt x="20200" y="1400"/>
                </a:lnTo>
                <a:close/>
              </a:path>
              <a:path fill="darkenLess" w="21600" h="24384">
                <a:moveTo>
                  <a:pt x="21600" y="24384"/>
                </a:moveTo>
                <a:lnTo>
                  <a:pt x="0" y="24384"/>
                </a:lnTo>
                <a:lnTo>
                  <a:pt x="1400" y="22985"/>
                </a:lnTo>
                <a:lnTo>
                  <a:pt x="20200" y="22985"/>
                </a:lnTo>
                <a:close/>
              </a:path>
              <a:path fill="lighten" w="21600" h="24384">
                <a:moveTo>
                  <a:pt x="0" y="24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85"/>
                </a:lnTo>
                <a:close/>
              </a:path>
            </a:pathLst>
          </a:custGeom>
          <a:blipFill rotWithShape="0">
            <a:blip r:embed="rId19">
              <a:alphaModFix amt="7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6360" y="573408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18962" y="10800"/>
                </a:moveTo>
                <a:lnTo>
                  <a:pt x="8456" y="17806"/>
                </a:lnTo>
                <a:lnTo>
                  <a:pt x="8456" y="3794"/>
                </a:lnTo>
                <a:close/>
              </a:path>
              <a:path fill="darken" w="30926" h="21600">
                <a:moveTo>
                  <a:pt x="20807" y="3794"/>
                </a:moveTo>
                <a:lnTo>
                  <a:pt x="20807" y="17806"/>
                </a:lnTo>
                <a:lnTo>
                  <a:pt x="22469" y="17806"/>
                </a:lnTo>
                <a:lnTo>
                  <a:pt x="2246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3200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655 - 6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0" name="">
            <a:hlinkClick r:id="rId4" action="ppaction://hlinksldjump"/>
          </p:cNvPr>
          <p:cNvSpPr/>
          <p:nvPr/>
        </p:nvSpPr>
        <p:spPr>
          <a:xfrm>
            <a:off x="3348000" y="5229360"/>
            <a:ext cx="230508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96360" y="50133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5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3200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655 - 6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3200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97 – 30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3348000" y="5229360"/>
            <a:ext cx="230508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3200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97 – 30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6360" y="50133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6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6360" y="50133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6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0656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66 : 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3348000" y="5229360"/>
            <a:ext cx="230508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8720" y="50133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28720" y="50133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0656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66 : 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3200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70 -14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3348000" y="5229360"/>
            <a:ext cx="230508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3200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70 -14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8000" y="50133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5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8000" y="50133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5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3200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60 – 23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3348000" y="5229360"/>
            <a:ext cx="230508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3200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60 – 23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8000" y="50133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3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8000" y="50133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3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3200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50 – 16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3348000" y="5229360"/>
            <a:ext cx="230508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1640" y="1700280"/>
            <a:ext cx="7489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48 : 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3348000" y="5229360"/>
            <a:ext cx="230508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8720" y="50133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8720" y="50133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71640" y="1700280"/>
            <a:ext cx="7489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48 : 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26920" y="1700280"/>
            <a:ext cx="76345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100 - 6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3348000" y="5229360"/>
            <a:ext cx="230508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8000" y="50133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3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8000" y="50133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3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26920" y="1700280"/>
            <a:ext cx="76345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100 - 6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42920" y="1700280"/>
            <a:ext cx="74185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360 : 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1" name="">
            <a:hlinkClick r:id="rId4" action="ppaction://hlinksldjump"/>
          </p:cNvPr>
          <p:cNvSpPr/>
          <p:nvPr/>
        </p:nvSpPr>
        <p:spPr>
          <a:xfrm>
            <a:off x="3348000" y="5229360"/>
            <a:ext cx="230508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8000" y="50133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3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42920" y="1700280"/>
            <a:ext cx="74185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360 : 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042920" y="1197000"/>
            <a:ext cx="7500960" cy="34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Поставьте ответ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в порядке возраста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0"/>
          <a:ext cx="8367480" cy="6973920"/>
        </p:xfrm>
        <a:graphic>
          <a:graphicData uri="http://schemas.openxmlformats.org/drawingml/2006/table">
            <a:tbl>
              <a:tblPr/>
              <a:tblGrid>
                <a:gridCol w="703080"/>
                <a:gridCol w="703440"/>
                <a:gridCol w="703080"/>
                <a:gridCol w="701640"/>
                <a:gridCol w="703440"/>
                <a:gridCol w="703080"/>
                <a:gridCol w="703440"/>
                <a:gridCol w="635040"/>
                <a:gridCol w="703080"/>
                <a:gridCol w="701640"/>
                <a:gridCol w="703440"/>
                <a:gridCol w="703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3a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3a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3a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3a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3a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3a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3a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3a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3a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3a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3a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3a"/>
                          </a:solidFill>
                          <a:latin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26920" y="1268280"/>
            <a:ext cx="720108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РЕШ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ЗАДА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3200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50 – 16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2000" y="508464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3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0656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180 :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3348000" y="5229360"/>
            <a:ext cx="230508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6360" y="50133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0656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180 :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06560" y="162864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200 - 19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3348000" y="5229360"/>
            <a:ext cx="230508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6720" y="50133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6720" y="50133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06560" y="162864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200 - 19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0656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12 х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3348000" y="5229360"/>
            <a:ext cx="230508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4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6360" y="50133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8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6360" y="50133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8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2089" y="10800"/>
                </a:moveTo>
                <a:lnTo>
                  <a:pt x="22594" y="3794"/>
                </a:lnTo>
                <a:lnTo>
                  <a:pt x="22594" y="17806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10244" y="3794"/>
                </a:lnTo>
                <a:lnTo>
                  <a:pt x="10244" y="17806"/>
                </a:lnTo>
                <a:lnTo>
                  <a:pt x="85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06560" y="170028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12 х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06:39:11Z</dcterms:created>
  <dc:creator>Пользователь</dc:creator>
  <dc:description/>
  <dc:language>en-US</dc:language>
  <cp:lastModifiedBy>юзер</cp:lastModifiedBy>
  <dcterms:modified xsi:type="dcterms:W3CDTF">2014-02-05T14:57:52Z</dcterms:modified>
  <cp:revision>4</cp:revision>
  <dc:subject/>
  <dc:title>Слайд 1</dc:title>
</cp:coreProperties>
</file>